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9636"/>
        <c:axId val="54207822"/>
      </c:barChart>
      <c:catAx>
        <c:axId val="5309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07822"/>
        <c:crosses val="autoZero"/>
        <c:auto val="1"/>
        <c:lblAlgn val="ctr"/>
        <c:lblOffset val="100"/>
        <c:noMultiLvlLbl val="0"/>
      </c:catAx>
      <c:valAx>
        <c:axId val="542078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9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357-4295-475E-9A8E-0AA12E18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F28F-7C4A-4519-BA73-6D5A6D9A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5EC-6CFB-4792-AB5C-FB2961D8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AAF-0B26-40F9-9480-F684B8A3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E84-E80B-4994-975E-1E4DF204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46F-F62B-429D-B2F1-AD4E165C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B387-4A09-4E26-9DE1-DB6058B7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F145-601F-46C6-A0A1-2E2D3D31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40B-A4DC-468B-BF54-0EC20680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D48-A3D8-4919-A930-0F1B3388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654-C41A-476E-B86A-7720510A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E8A-04F8-4971-9040-353F99FC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43DB7-40D1-4EF0-987A-B673A233E2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