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50186"/>
        <c:axId val="1453817"/>
      </c:barChart>
      <c:catAx>
        <c:axId val="95350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3817"/>
        <c:crosses val="autoZero"/>
        <c:auto val="1"/>
        <c:lblAlgn val="ctr"/>
        <c:lblOffset val="100"/>
        <c:noMultiLvlLbl val="0"/>
      </c:catAx>
      <c:valAx>
        <c:axId val="1453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50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AD7-A404-4C88-8ECE-4F297FC3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C93-A38A-445B-B231-1BF8B51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0DD-EBF4-460E-8E2F-DB584A50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215-EBE5-445C-9862-94984F64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786-D9A4-48FE-AF5F-2298045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351-8081-4276-BF69-4663598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243-E4C1-4CC7-AA9B-F7B836E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57B-266C-47AA-A151-DBC7FB3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5A2-ABF1-431C-9408-2DA63E1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7D0-7685-4EF1-8009-F9164B53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C2-2094-40B0-A2CF-00D4F0C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17F-09C0-401E-A79B-9B38E2A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6FD48-9798-428D-92FA-396A6A32DA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